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33E2-B352-43BB-8043-CEA5AE44CD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5C3-155F-408C-A6CE-C000D568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4BEC-B884-45ED-ABFC-54D78811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2E42-58B9-4175-8C09-FE63B867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872-94B9-4716-A441-F577382C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4E8E-87B4-48BC-A65A-24AFBFDC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77B-CBAF-412D-B1A5-2F418578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3723-7D04-4614-85F0-FEFE76F3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ABC-E532-41AE-84CF-E9BF2CA2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B7D3-931A-4DCA-B1CA-588B05BC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B82F-71E7-47D6-A3CE-AE73B3EC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E80-9C52-4AE8-87BE-85A1009C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B71-5E3C-4FD1-B3A2-EB196916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5682-15F1-4411-9F01-D4EB53244C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ell Membran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 and 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2209680" y="1397160"/>
          <a:ext cx="518184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97160"/>
                    <a:ext cx="518184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"/>
          <p:cNvSpPr/>
          <p:nvPr/>
        </p:nvSpPr>
        <p:spPr>
          <a:xfrm>
            <a:off x="3809880" y="4572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Diffu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3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4" descr="08"/>
          <p:cNvPicPr/>
          <p:nvPr/>
        </p:nvPicPr>
        <p:blipFill>
          <a:blip r:embed="rId5"/>
          <a:stretch/>
        </p:blipFill>
        <p:spPr>
          <a:xfrm>
            <a:off x="1219320" y="1447920"/>
            <a:ext cx="7162560" cy="4657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794400" y="480960"/>
            <a:ext cx="217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nicity is a relative t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low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er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high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both solutions have same concentrations of solu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8"/>
          <p:cNvPicPr/>
          <p:nvPr/>
        </p:nvPicPr>
        <p:blipFill>
          <a:blip r:embed="rId1"/>
          <a:stretch/>
        </p:blipFill>
        <p:spPr>
          <a:xfrm>
            <a:off x="1447920" y="1523880"/>
            <a:ext cx="6248160" cy="4496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447920" y="3808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Plant and Animal Cells put i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various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8"/>
          <p:cNvPicPr/>
          <p:nvPr/>
        </p:nvPicPr>
        <p:blipFill>
          <a:blip r:embed="rId1"/>
          <a:stretch/>
        </p:blipFill>
        <p:spPr>
          <a:xfrm>
            <a:off x="1981080" y="1828800"/>
            <a:ext cx="5486400" cy="3962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820600" y="685800"/>
            <a:ext cx="39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ypes of Trans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day’s La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mbrane Perme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ut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eosin-starch-chloride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v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Wa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Indicat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presence of  starch is I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triiodine ion) which is solub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mbines with the amylose and the starch molecule turns blue-bla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st for St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3" descr="547starchiodine"/>
          <p:cNvPicPr/>
          <p:nvPr/>
        </p:nvPicPr>
        <p:blipFill>
          <a:blip r:embed="rId1"/>
          <a:stretch/>
        </p:blipFill>
        <p:spPr>
          <a:xfrm>
            <a:off x="1447920" y="1371600"/>
            <a:ext cx="6400800" cy="5257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2651040" y="6335640"/>
            <a:ext cx="32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Chlorid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Sulfat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rium sulfate,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forms a white precipi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Cl + N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---&gt;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+ Na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unctions of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ving Cel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447920" y="1371600"/>
          <a:ext cx="617220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71600"/>
                    <a:ext cx="617220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2516760" y="380880"/>
            <a:ext cx="42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8"/>
          <p:cNvPicPr/>
          <p:nvPr/>
        </p:nvPicPr>
        <p:blipFill>
          <a:blip r:embed="rId1"/>
          <a:stretch/>
        </p:blipFill>
        <p:spPr>
          <a:xfrm>
            <a:off x="1600200" y="1619280"/>
            <a:ext cx="6095880" cy="4400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894400" y="609480"/>
            <a:ext cx="35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lood-Brain Barri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, 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Glucose,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mino Acids,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Times New Roman"/>
              </a:rPr>
              <a:t>Alcoho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nd antihistamines.  HIV and bacterial meningitis can cross the barri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6:48:03Z</dcterms:created>
  <dc:creator>Educational Technologies</dc:creator>
  <dc:description/>
  <dc:language>en-US</dc:language>
  <cp:lastModifiedBy>LEGION2</cp:lastModifiedBy>
  <dcterms:modified xsi:type="dcterms:W3CDTF">2016-01-11T13:42:09Z</dcterms:modified>
  <cp:revision>40</cp:revision>
  <dc:subject/>
  <dc:title>Cell Membranes Osmosis and Diffusion</dc:title>
</cp:coreProperties>
</file>